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D2A-319F-42A2-B142-5DB91041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1E6-5878-4E59-AFE2-FC969D8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ED1-2F3B-4FEC-B9C3-60DBE8AC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470-9D81-4972-B632-AB51BC7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DE0-341C-43B2-83A2-BC6BA58E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F47-18FA-47C6-85AE-9253E6E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FC0-5E44-4388-80D5-51F986C8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419-65B8-4DF8-95A8-ED59E58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FBB-DABF-46D8-954C-53BED0E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014-C509-47AC-97E5-E04A31BA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A26-A5F5-4F00-A34B-E79E804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2BC-3D77-4CFA-A00F-BCB66BD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AA1-C0DD-4AB8-B9A8-8FA96BB5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ther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8320" y="2514600"/>
            <a:ext cx="672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ssessing Interaction Involving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atch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gnor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6760" y="281952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Ignoring the Mat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2240" y="1676520"/>
            <a:ext cx="540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ssessing Intera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Involving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6400" y="2819520"/>
            <a:ext cx="620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20:10:43Z</dcterms:modified>
  <cp:revision>81</cp:revision>
  <dc:subject/>
  <dc:title>The Art in the State of the Art</dc:title>
</cp:coreProperties>
</file>